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media/image12.png" ContentType="image/png"/>
  <Override PartName="/ppt/media/image7.wmf" ContentType="image/x-wmf"/>
  <Override PartName="/ppt/media/image11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A9C84-C3F3-4736-9843-6E64138D926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22D1E-0F73-42C0-96FA-0374066704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390D8-EA54-41A5-A9EB-195C64FF5A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6D4D540-8534-439F-B9B8-59E040F7E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1DF25-0BEF-4D73-9617-94FFF769C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2CB460C-8BE0-42A8-8FB8-925CA74CE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3018375-FBAF-4C5E-A1DE-CC318DC39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66EB8F8-A60F-4815-B7D8-2ED359A93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78D05C2-DACB-4636-89ED-9EFB7C1EB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8B922DA-1017-48EC-BD62-5F4FFA1BD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BAA99-AC77-4CDB-B38E-8581D8CCCA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FA748-2674-4557-8E60-FBAA00573B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67CFB-FF60-4138-9D5D-EE588BEA3F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3FEC5-3CD5-4D13-B3DD-8C7825F9A4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4D42F-669B-406C-AC93-06AE6D3542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ECFF-C4EE-4183-A087-35B33182BDC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64CF-BBDD-400B-9595-82EF0967167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E47F-6532-444C-897A-F914C1E8571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0679-FE69-4E50-91D3-6AE02E05639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EFE4-A76E-4FDA-9425-79B187F808E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9CBE-D791-4F21-A1DE-DD7C1B1F54B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5B4B-2C4A-4ADA-A782-9D97FA894F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B2DE4-C7F4-46DB-8155-A274524DE8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8086-CFD7-413A-B93D-2D91471ABFE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759B-55FB-4E71-8D86-A1733919E16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76EB-3070-449A-AE8C-83B9BD5AB74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2F8E-902B-4BE7-8FCE-6F890825680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3C93-3FEE-4DB9-919A-729124C2BB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DE001-9B9A-4DBC-8B36-C25A029D84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E8D2C-304D-484A-A9A1-921322EAE8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4E10F-F2D0-4A52-87CE-527B5648EF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B0BA6-3808-489A-B0E2-AC5A22F0C5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C6627-4B65-41A2-856B-8B8580C6BD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972C4-6EE3-4A4A-AB15-31D9C59D26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54262-547A-40F5-AB6D-2ABAEF157D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 au Contrôle de la Qualitél-Modul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52867-B2C8-403A-9998-DB6302E9D6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EF000-C47B-4E27-8FF3-09C75A7134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3ECD9-B51D-41DD-A5C4-8D2F09A52A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Text Box 16"/>
          <p:cNvSpPr/>
          <p:nvPr/>
        </p:nvSpPr>
        <p:spPr>
          <a:xfrm>
            <a:off x="2819520" y="1447920"/>
            <a:ext cx="6172200" cy="28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Verdana"/>
              </a:rPr>
              <a:t>Contrôle des processus :</a:t>
            </a:r>
            <a:br>
              <a:rPr sz="4400"/>
            </a:b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Introduction au Contrôl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1F194-B130-4FD9-AC71-3A5F30272E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 C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rtie importante du système de gestion de la qual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but est de détecter les erreurs et les éliminer avant que les résultats ne soient rend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ifférents processus de CQ sont appliqués pour contrôler les examens quantitatifs, qualitatifs et semi quantitatif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4118-97DA-416E-8126-3B99F39C27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562720" y="762120"/>
            <a:ext cx="35812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 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6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533520" y="990720"/>
            <a:ext cx="4647960" cy="4460760"/>
          </a:xfrm>
          <a:prstGeom prst="rect">
            <a:avLst/>
          </a:prstGeom>
          <a:ln w="0">
            <a:noFill/>
          </a:ln>
        </p:spPr>
      </p:pic>
      <p:sp>
        <p:nvSpPr>
          <p:cNvPr id="197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EE295-B998-460E-90FD-F6F7EEFB1B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fin du module, les participants seront en mesure de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inir le contrôle qualité et décrire sa relation avec le système général de gestion de la qualité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crire les différences existantes entre les tests quantitatifs, semi quantitatifs et qualitatif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E763C-0100-40DC-8226-22040F8352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36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648320" cy="4460760"/>
          </a:xfrm>
          <a:prstGeom prst="rect">
            <a:avLst/>
          </a:prstGeom>
          <a:ln w="0">
            <a:noFill/>
          </a:ln>
        </p:spPr>
      </p:pic>
      <p:sp>
        <p:nvSpPr>
          <p:cNvPr id="137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5D6BC-71A1-4C06-9F0B-2455AC647C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é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Le Contrôle Qualité (CQ)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st la  partie de la gestion de la qualité se concentrant sur les exigences qualité à remplir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(ISO 9000:2000, 3.2.10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l s’agit d’examiner un matériel de « contrôle » de nature connue, avec les échantillons, pour vérifier la justesse et la précision du processus analytique dans son ensemble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292C-4166-4EB4-BB49-23FC9C9A55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Bu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16765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ffff00"/>
                </a:solidFill>
                <a:latin typeface="Verdana"/>
              </a:rPr>
              <a:t>Le but du CQ est de détecter les erreurs et de les corriger avant que les résultats du patient ne soient rendu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A3E81-28C0-457A-824A-7228483C81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nalyses quantita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Mesure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la quantité d’une substance particulière dans un échantill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9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50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51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3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7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mesures devraient être exactes et préc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8" descr="10040_lores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161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FAC09-7CEA-4F08-8681-AEEE6EFDC8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éthodes d’analyse qualitativ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nalyses qui ne donnent pas de résultats numériqu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roissance ou pas de croiss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ositif ou négati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ctif ou non réactif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angement de coul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5" name="Picture 8" descr="qc_growth_poor_growth_cdc"/>
          <p:cNvPicPr/>
          <p:nvPr/>
        </p:nvPicPr>
        <p:blipFill>
          <a:blip r:embed="rId1"/>
          <a:stretch/>
        </p:blipFill>
        <p:spPr>
          <a:xfrm>
            <a:off x="6781680" y="1828800"/>
            <a:ext cx="2230560" cy="1494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pos_neg-urease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qc_pos_neg_latex_agglut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168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83A87-EE72-47C7-8D42-F29D372FE5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Méthodes d’analyse semi quantitativ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81520" indent="-28152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résultats sont exprimés par une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estimation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de la quantité présente de la substance mesurée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1520" indent="-281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ce”, “quantité modérée,” ou “1+, 2+ ou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520" indent="-281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ombre de cellules vues par champ au microscop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520" indent="-281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itres et dilutions dans les tests sérologiq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8C506-7C0A-4793-85DD-CA8814CDDA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457200" y="609480"/>
            <a:ext cx="8458200" cy="5638680"/>
            <a:chOff x="457200" y="609480"/>
            <a:chExt cx="8458200" cy="5638680"/>
          </a:xfrm>
        </p:grpSpPr>
        <p:grpSp>
          <p:nvGrpSpPr>
            <p:cNvPr id="175" name="Group 6"/>
            <p:cNvGrpSpPr/>
            <p:nvPr/>
          </p:nvGrpSpPr>
          <p:grpSpPr>
            <a:xfrm>
              <a:off x="457200" y="609480"/>
              <a:ext cx="8381520" cy="5638680"/>
              <a:chOff x="457200" y="609480"/>
              <a:chExt cx="8381520" cy="5638680"/>
            </a:xfrm>
          </p:grpSpPr>
          <p:sp>
            <p:nvSpPr>
              <p:cNvPr id="176" name="AutoShape 5"/>
              <p:cNvSpPr/>
              <p:nvPr/>
            </p:nvSpPr>
            <p:spPr>
              <a:xfrm>
                <a:off x="457200" y="609480"/>
                <a:ext cx="8381520" cy="563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_s10255"/>
              <p:cNvSpPr/>
              <p:nvPr/>
            </p:nvSpPr>
            <p:spPr>
              <a:xfrm flipH="1">
                <a:off x="2657520" y="3428640"/>
                <a:ext cx="995040" cy="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_s10254"/>
              <p:cNvSpPr/>
              <p:nvPr/>
            </p:nvSpPr>
            <p:spPr>
              <a:xfrm>
                <a:off x="666720" y="2759040"/>
                <a:ext cx="1990440" cy="1338840"/>
              </a:xfrm>
              <a:prstGeom prst="rect">
                <a:avLst/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800" spc="-1" strike="noStrike">
                    <a:solidFill>
                      <a:srgbClr val="000000"/>
                    </a:solidFill>
                    <a:latin typeface="Verdana"/>
                  </a:rPr>
                  <a:t>Revue des</a:t>
                </a:r>
                <a:br>
                  <a:rPr sz="2800"/>
                </a:br>
                <a:r>
                  <a:rPr b="1" lang="fr-FR" sz="2800" spc="-1" strike="noStrike">
                    <a:solidFill>
                      <a:srgbClr val="000000"/>
                    </a:solidFill>
                    <a:latin typeface="Verdana"/>
                  </a:rPr>
                  <a:t> données</a:t>
                </a:r>
                <a:br>
                  <a:rPr sz="2800"/>
                </a:br>
                <a:r>
                  <a:rPr b="1" lang="fr-FR" sz="2800" spc="-1" strike="noStrike">
                    <a:solidFill>
                      <a:srgbClr val="000000"/>
                    </a:solidFill>
                    <a:latin typeface="Verdana"/>
                  </a:rPr>
                  <a:t> CQ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_s10253"/>
              <p:cNvSpPr/>
              <p:nvPr/>
            </p:nvSpPr>
            <p:spPr>
              <a:xfrm>
                <a:off x="4647960" y="4098240"/>
                <a:ext cx="0" cy="66924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_s10252"/>
              <p:cNvSpPr/>
              <p:nvPr/>
            </p:nvSpPr>
            <p:spPr>
              <a:xfrm>
                <a:off x="3652560" y="4767840"/>
                <a:ext cx="1990440" cy="1339560"/>
              </a:xfrm>
              <a:prstGeom prst="rect">
                <a:avLst/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Assurer </a:t>
                </a:r>
                <a:br>
                  <a:rPr sz="1900"/>
                </a:b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une </a:t>
                </a:r>
                <a:br>
                  <a:rPr sz="1900"/>
                </a:b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documentation</a:t>
                </a:r>
                <a:br>
                  <a:rPr sz="1900"/>
                </a:b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complète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_s10251"/>
              <p:cNvSpPr/>
              <p:nvPr/>
            </p:nvSpPr>
            <p:spPr>
              <a:xfrm>
                <a:off x="5643000" y="3428640"/>
                <a:ext cx="995040" cy="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_s10250"/>
              <p:cNvSpPr/>
              <p:nvPr/>
            </p:nvSpPr>
            <p:spPr>
              <a:xfrm>
                <a:off x="6638400" y="2759040"/>
                <a:ext cx="1990800" cy="1338840"/>
              </a:xfrm>
              <a:prstGeom prst="rect">
                <a:avLst/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Verdana"/>
                  </a:rPr>
                  <a:t>Formez</a:t>
                </a:r>
                <a:br>
                  <a:rPr sz="2400"/>
                </a:br>
                <a:r>
                  <a:rPr b="1" lang="fr-FR" sz="2400" spc="-1" strike="noStrike">
                    <a:solidFill>
                      <a:srgbClr val="000000"/>
                    </a:solidFill>
                    <a:latin typeface="Verdana"/>
                  </a:rPr>
                  <a:t> tout le</a:t>
                </a:r>
                <a:br>
                  <a:rPr sz="2400"/>
                </a:br>
                <a:r>
                  <a:rPr b="1" lang="fr-FR" sz="2400" spc="-1" strike="noStrike">
                    <a:solidFill>
                      <a:srgbClr val="000000"/>
                    </a:solidFill>
                    <a:latin typeface="Verdana"/>
                  </a:rPr>
                  <a:t> personne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_s10249"/>
              <p:cNvSpPr/>
              <p:nvPr/>
            </p:nvSpPr>
            <p:spPr>
              <a:xfrm flipV="1">
                <a:off x="4647960" y="2089440"/>
                <a:ext cx="0" cy="66924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_s10248"/>
              <p:cNvSpPr/>
              <p:nvPr/>
            </p:nvSpPr>
            <p:spPr>
              <a:xfrm>
                <a:off x="3652560" y="750600"/>
                <a:ext cx="1990440" cy="1338840"/>
              </a:xfrm>
              <a:prstGeom prst="rect">
                <a:avLst/>
              </a:prstGeom>
              <a:blipFill rotWithShape="0">
                <a:blip r:embed="rId4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Créer des lignes</a:t>
                </a:r>
                <a:br>
                  <a:rPr sz="1600"/>
                </a:b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 de conduite</a:t>
                </a:r>
                <a:br>
                  <a:rPr sz="1600"/>
                </a:b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 et procédures</a:t>
                </a:r>
                <a:br>
                  <a:rPr sz="1600"/>
                </a:b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écrit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_s10247"/>
              <p:cNvSpPr/>
              <p:nvPr/>
            </p:nvSpPr>
            <p:spPr>
              <a:xfrm>
                <a:off x="3652560" y="2759040"/>
                <a:ext cx="1990440" cy="1338840"/>
              </a:xfrm>
              <a:prstGeom prst="rect">
                <a:avLst/>
              </a:prstGeom>
              <a:blipFill rotWithShape="0">
                <a:blip r:embed="rId5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cccce6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Text Box 16"/>
            <p:cNvSpPr/>
            <p:nvPr/>
          </p:nvSpPr>
          <p:spPr>
            <a:xfrm>
              <a:off x="2819520" y="2590920"/>
              <a:ext cx="3733560" cy="200052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00007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00"/>
                  </a:solidFill>
                  <a:latin typeface="Verdana"/>
                </a:rPr>
                <a:t>Étapes du programme de C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17"/>
            <p:cNvSpPr/>
            <p:nvPr/>
          </p:nvSpPr>
          <p:spPr>
            <a:xfrm>
              <a:off x="5791320" y="1219320"/>
              <a:ext cx="1295280" cy="609480"/>
            </a:xfrm>
            <a:prstGeom prst="pi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8"/>
            <p:cNvSpPr/>
            <p:nvPr/>
          </p:nvSpPr>
          <p:spPr>
            <a:xfrm>
              <a:off x="7162920" y="990720"/>
              <a:ext cx="1752480" cy="91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inclure les actions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corr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3T14:13:11Z</dcterms:created>
  <dc:creator>Owner</dc:creator>
  <dc:description/>
  <dc:language>en-US</dc:language>
  <cp:lastModifiedBy>dolmazonv</cp:lastModifiedBy>
  <dcterms:modified xsi:type="dcterms:W3CDTF">2010-04-07T16:09:49Z</dcterms:modified>
  <cp:revision>52</cp:revision>
  <dc:subject/>
  <dc:title>Quality Control Overview</dc:title>
</cp:coreProperties>
</file>